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F6FAD-533B-4C72-A417-A9832AB68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7261D-4600-4ACA-9A3F-4C93BACA2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5D66D-6722-41C9-BADD-3676EB32B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90CBA-CFE5-40AB-BE6E-5BDA13638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F9ADF-7CAF-4AF5-8A61-3C0689FBC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20BE5-3D7F-4BB7-B90F-6A5F50EC9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176FF-A219-4B6D-AA15-8F7AB4ED9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4FEBC-BC77-4267-9D36-5068B573E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EFF48-AF45-4A7D-AE5B-508EC9EEB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8DC6C-4876-418D-BCD8-77A8F5D15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C2198-8569-417A-9B5A-953212FCD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A5C57-6225-408F-B988-75479EFE6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D61A-FDE3-4B55-BE6F-6AB7D358B18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ncientgreece.co.uk/dailylife/challenge/cha_set.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www.google.co.uk/url?sa=i&amp;rct=j&amp;q=&amp;esrc=s&amp;source=images&amp;cd=&amp;cad=rja&amp;docid=vUzToGF9JBYqhM&amp;tbnid=zL01USvzXduOxM:&amp;ved=0CAUQjRw&amp;url=http%3A%2F%2Fblog.visitgreece.gr%2Fgastronomy-in-greece-crete-food%2F&amp;ei=V-UFU5PYIsyS1AXbqYD4Aw&amp;bvm=bv.61725948,d.ZGU&amp;psig=AFQjCNGO2RgvP-fq_y7_evlF4CWIszHHrw&amp;ust=1392981689684871" TargetMode="External"/><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aily Lif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692280"/>
            <a:ext cx="8229600" cy="5433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at was rarely eaten as the Greeks felt that just killing and eating a domesticated animal (like a goat) was wrong. The Greeks would often sacrifice the meat to the gods first and then might eat some of the me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Greeks also loved their wine which was made from the grapes they gr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CLOTHES</a:t>
            </a:r>
            <a:endParaRPr b="0" lang="en-US" sz="4000" spc="-1" strike="noStrike">
              <a:solidFill>
                <a:srgbClr val="000000"/>
              </a:solidFill>
              <a:latin typeface="Calibri"/>
            </a:endParaRPr>
          </a:p>
        </p:txBody>
      </p:sp>
      <p:sp>
        <p:nvSpPr>
          <p:cNvPr id="6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8" descr=""/>
          <p:cNvPicPr/>
          <p:nvPr/>
        </p:nvPicPr>
        <p:blipFill>
          <a:blip r:embed="rId1"/>
          <a:stretch/>
        </p:blipFill>
        <p:spPr>
          <a:xfrm>
            <a:off x="2050920" y="-49320"/>
            <a:ext cx="5073840" cy="691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88640"/>
            <a:ext cx="8229600" cy="633564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Greeks wore light, loose cloth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ong pieces of colourful fabric were used to make the Greek clothe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main item of clothing for men was a </a:t>
            </a:r>
            <a:r>
              <a:rPr b="1" lang="en-GB" sz="2800" spc="-1" strike="noStrike">
                <a:solidFill>
                  <a:srgbClr val="000000"/>
                </a:solidFill>
                <a:latin typeface="Calibri"/>
              </a:rPr>
              <a:t>tunic</a:t>
            </a:r>
            <a:r>
              <a:rPr b="0" lang="en-GB" sz="2800" spc="-1" strike="noStrike">
                <a:solidFill>
                  <a:srgbClr val="000000"/>
                </a:solidFill>
                <a:latin typeface="Calibri"/>
              </a:rPr>
              <a:t>. They were big squares of cloth, held in place by pins at the shoulders and a belt round the waist. They were made from wool in the winter or linen in the summer.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lso wore similar clothing. Unlike the men's, the dresses always went down to the ankle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ancient Greeks could buy cloth and clothes in the agora, the marketplace, but that was expensive.</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ny of the clothes were made by the women and female slav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JOBS</a:t>
            </a:r>
            <a:endParaRPr b="0" lang="en-US" sz="40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men and women did different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n had a much better life in Ancient Greece than women. Only men could be full citizens. Only men made the important decisions. Normally, only men fought in armies, took part in sports and met in publ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omen</a:t>
            </a:r>
            <a:endParaRPr b="0" lang="en-US" sz="4400" spc="-1" strike="noStrike">
              <a:solidFill>
                <a:srgbClr val="000000"/>
              </a:solidFill>
              <a:latin typeface="Calibri"/>
            </a:endParaRPr>
          </a:p>
        </p:txBody>
      </p:sp>
      <p:sp>
        <p:nvSpPr>
          <p:cNvPr id="6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partan women were taught reading and writing and skills to protect themselves in battle. They had more freedom than women and girls living in Athens. As well as looking after the house, making clothes</a:t>
            </a:r>
            <a:endParaRPr b="0" lang="en-US" sz="2800" spc="-1" strike="noStrike">
              <a:solidFill>
                <a:srgbClr val="000000"/>
              </a:solidFill>
              <a:latin typeface="Calibri"/>
            </a:endParaRPr>
          </a:p>
        </p:txBody>
      </p:sp>
      <p:sp>
        <p:nvSpPr>
          <p:cNvPr id="7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in Athens were taught skills they would need to run a home such as cooking and weaving. They were expected to look after the home, make the clothes, and bear childr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lave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nly in the poorest homes were women expected to carry out all the duties by herself. Most homes had female slaves who cooked cleaned and collected fresh water every 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were also male slaves. Their responsibilities included protecting the home and tutoring male childr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MARRIAGE</a:t>
            </a:r>
            <a:endParaRPr b="0" lang="en-US" sz="4000" spc="-1" strike="noStrike">
              <a:solidFill>
                <a:srgbClr val="000000"/>
              </a:solidFill>
              <a:latin typeface="Calibri"/>
            </a:endParaRPr>
          </a:p>
        </p:txBody>
      </p:sp>
      <p:sp>
        <p:nvSpPr>
          <p:cNvPr id="7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HOMES</a:t>
            </a:r>
            <a:endParaRPr b="0" lang="en-US" sz="4000" spc="-1" strike="noStrike">
              <a:solidFill>
                <a:srgbClr val="000000"/>
              </a:solidFill>
              <a:latin typeface="Calibri"/>
            </a:endParaRPr>
          </a:p>
        </p:txBody>
      </p:sp>
      <p:sp>
        <p:nvSpPr>
          <p:cNvPr id="4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marriages were like in Ancient Gree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468360" y="189000"/>
            <a:ext cx="8097840" cy="4260600"/>
          </a:xfrm>
          <a:prstGeom prst="rect">
            <a:avLst/>
          </a:prstGeom>
          <a:ln w="0">
            <a:noFill/>
          </a:ln>
        </p:spPr>
      </p:pic>
      <p:sp>
        <p:nvSpPr>
          <p:cNvPr id="77" name="TextBox 2"/>
          <p:cNvSpPr/>
          <p:nvPr/>
        </p:nvSpPr>
        <p:spPr>
          <a:xfrm>
            <a:off x="628560" y="5013360"/>
            <a:ext cx="777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at do you think is happening he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68360" y="836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irls had to do exactly as their father told them and this included marrying the man their father chose for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en when married, a women was not free. She had to do as her husband wished. She was not allowed out on her own and was not often seen by people other than her own fami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12500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st girls were married by the age of 14 while their husbands were at least 3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olygamy was popular during this time. Rich men could have several wi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68360" y="907920"/>
            <a:ext cx="822960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pairs (or threes!) tell each other 3 things you can remember about everyday life in Ancient Gree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609480" y="638280"/>
            <a:ext cx="7925040" cy="558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704880" y="895320"/>
            <a:ext cx="7734240" cy="5067360"/>
          </a:xfrm>
          <a:prstGeom prst="rect">
            <a:avLst/>
          </a:prstGeom>
          <a:ln w="0">
            <a:noFill/>
          </a:ln>
        </p:spPr>
      </p:pic>
      <p:sp>
        <p:nvSpPr>
          <p:cNvPr id="47" name="TextBox 1"/>
          <p:cNvSpPr/>
          <p:nvPr/>
        </p:nvSpPr>
        <p:spPr>
          <a:xfrm>
            <a:off x="704880" y="6237360"/>
            <a:ext cx="797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can you tell me about the houses and homes so f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88640"/>
            <a:ext cx="8229600" cy="6669000"/>
          </a:xfrm>
          <a:prstGeom prst="rect">
            <a:avLst/>
          </a:prstGeom>
          <a:noFill/>
          <a:ln w="0">
            <a:noFill/>
          </a:ln>
        </p:spPr>
        <p:txBody>
          <a:bodyPr anchor="t">
            <a:normAutofit/>
          </a:bodyPr>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Most houses in Ancient Greek towns were built from stone or clay.</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The roofs were covered with tiles, or reeds, and the houses had one or two storeys.</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The floors of the rooms were tiled to keep them cool, although in winter fires in metal baskets were sometimes needed. </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Larger homes had a kitchen, a room for bathing, a men's dining room, and sometimes a woman's sitting area. </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The houses were planned around a courtyard, and had high walls and a strong gate.  Much of ancient Greek family life centered around the courtyard.</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As well as having separate roles in life, men and women lived in different parts of the house. Women had the back and upstairs part.</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www.ancientgreece.co.uk/dailylife/challenge/cha_set.htm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OOD</a:t>
            </a:r>
            <a:endParaRPr b="0" lang="en-US" sz="4000" spc="-1" strike="noStrike">
              <a:solidFill>
                <a:srgbClr val="000000"/>
              </a:solidFill>
              <a:latin typeface="Calibri"/>
            </a:endParaRPr>
          </a:p>
        </p:txBody>
      </p:sp>
      <p:sp>
        <p:nvSpPr>
          <p:cNvPr id="5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food"/>
          <p:cNvPicPr/>
          <p:nvPr/>
        </p:nvPicPr>
        <p:blipFill>
          <a:blip r:embed="rId1"/>
          <a:stretch/>
        </p:blipFill>
        <p:spPr>
          <a:xfrm>
            <a:off x="60480" y="9360"/>
            <a:ext cx="4054320" cy="2686320"/>
          </a:xfrm>
          <a:prstGeom prst="rect">
            <a:avLst/>
          </a:prstGeom>
          <a:ln w="0">
            <a:noFill/>
          </a:ln>
        </p:spPr>
      </p:pic>
      <p:pic>
        <p:nvPicPr>
          <p:cNvPr id="53" name="Picture 4" descr="fish"/>
          <p:cNvPicPr/>
          <p:nvPr/>
        </p:nvPicPr>
        <p:blipFill>
          <a:blip r:embed="rId2"/>
          <a:stretch/>
        </p:blipFill>
        <p:spPr>
          <a:xfrm>
            <a:off x="5651640" y="4005360"/>
            <a:ext cx="3305160" cy="2592360"/>
          </a:xfrm>
          <a:prstGeom prst="rect">
            <a:avLst/>
          </a:prstGeom>
          <a:ln w="0">
            <a:noFill/>
          </a:ln>
        </p:spPr>
      </p:pic>
      <p:pic>
        <p:nvPicPr>
          <p:cNvPr id="54" name="Picture 6" descr="meat"/>
          <p:cNvPicPr/>
          <p:nvPr/>
        </p:nvPicPr>
        <p:blipFill>
          <a:blip r:embed="rId3"/>
          <a:stretch/>
        </p:blipFill>
        <p:spPr>
          <a:xfrm>
            <a:off x="5824440" y="157320"/>
            <a:ext cx="3132360" cy="2390760"/>
          </a:xfrm>
          <a:prstGeom prst="rect">
            <a:avLst/>
          </a:prstGeom>
          <a:ln w="0">
            <a:noFill/>
          </a:ln>
        </p:spPr>
      </p:pic>
      <p:pic>
        <p:nvPicPr>
          <p:cNvPr id="55" name="Picture 8" descr="">
            <a:hlinkClick r:id="rId4"/>
          </p:cNvPr>
          <p:cNvPicPr/>
          <p:nvPr/>
        </p:nvPicPr>
        <p:blipFill>
          <a:blip r:embed="rId5"/>
          <a:stretch/>
        </p:blipFill>
        <p:spPr>
          <a:xfrm>
            <a:off x="60480" y="3314880"/>
            <a:ext cx="5333760" cy="3543120"/>
          </a:xfrm>
          <a:prstGeom prst="rect">
            <a:avLst/>
          </a:prstGeom>
          <a:ln w="0">
            <a:noFill/>
          </a:ln>
        </p:spPr>
      </p:pic>
      <p:sp>
        <p:nvSpPr>
          <p:cNvPr id="56" name="TextBox 3"/>
          <p:cNvSpPr/>
          <p:nvPr/>
        </p:nvSpPr>
        <p:spPr>
          <a:xfrm>
            <a:off x="2484360" y="2838600"/>
            <a:ext cx="608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can you tell me about the food so f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259920"/>
            <a:ext cx="8229600" cy="6048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Ancient Greeks grew olives, grapes, figs and wheat and kept goats, for milk and cheese. They ate lots of bread, beans and oliv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e Summer months there were plenty of fresh fruit and vegetables to e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e winter they ate dried fruit and food they had stored like apples and lentils. As most of the Greeks lived very near the sea, they also ate a lot of fish, squid and shellfis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11:11:08Z</dcterms:created>
  <dc:creator>User</dc:creator>
  <dc:description/>
  <dc:language>en-US</dc:language>
  <cp:lastModifiedBy>Denney, Lisa</cp:lastModifiedBy>
  <dcterms:modified xsi:type="dcterms:W3CDTF">2020-05-19T18:49:14Z</dcterms:modified>
  <cp:revision>7</cp:revision>
  <dc:subject/>
  <dc:title>Daily Life!</dc:title>
</cp:coreProperties>
</file>